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94D8-D578-4174-B735-7B125D9C9D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CB8-5630-4CC2-99E4-C6B728AC51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FE89-86AA-40A6-B920-1C1722F07A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1848-E9E7-43EB-BE86-FBAC75E8EA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7794-732E-4629-8927-3B30FA7F63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5C82-474F-4E4E-A73F-7B22BCE602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BFC6-83F4-426B-804E-74F915E641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1CCF-A878-46E2-9ADE-813D824597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3A96-D8C5-4312-A5EE-C992AC927C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F2E-C31F-418E-BC07-D31C08D7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99D-E906-4136-82CF-0A7861A1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B74-0FBB-4B7C-8836-AA423DB4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CCF-099B-40DB-925D-A26B2479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B4B-7303-49B3-B048-555EB3ED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D76-6238-4D34-824B-23BE8EAA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E38-B7BF-4B66-8250-1C0E3E35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BC3-7718-4628-BF28-3C38A923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BFF-A821-4682-8293-6AFA5D18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AF9-2C3F-4E64-BCF4-E715153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01E-3128-4C39-864F-559026AA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286-1133-4B02-9346-5A845A6B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B084-B006-477E-BCD2-E2FC5C79A1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600" spc="-1" strike="noStrike">
              <a:solidFill>
                <a:srgbClr val="d113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2000" y="1125360"/>
            <a:ext cx="48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358920" y="1197000"/>
            <a:ext cx="3673440" cy="432108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395280" y="2384280"/>
            <a:ext cx="3456000" cy="324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280"/>
            <a:ext cx="446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soby žadate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a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piš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4000" y="1376280"/>
            <a:ext cx="386244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 všechny KA projektu 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29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jenom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ráce a slaďování pracovního a rodinného života (č. 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503280" y="5189400"/>
            <a:ext cx="78138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76 složen ze dvou možno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 flipV="1">
            <a:off x="4102200" y="3409920"/>
            <a:ext cx="1225440" cy="433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5327640" y="3209760"/>
            <a:ext cx="2533680" cy="400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08000" y="1341000"/>
            <a:ext cx="42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 výzvě č.76 je uveden seznam povinných příloh, které musí být součástí předložené žádosti o finanční podpo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vinná příloh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ro výzvu č.76 je pouze jed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001) 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395280" y="1015920"/>
            <a:ext cx="4175280" cy="5077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431640" y="1449360"/>
            <a:ext cx="28130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2920" y="1591920"/>
            <a:ext cx="4141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 Následující odstávka aplikací bude 1.7.2011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6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1643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324000" y="981000"/>
          <a:ext cx="7524720" cy="51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81000"/>
                    <a:ext cx="75247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6408720" y="393372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1233360" y="4464000"/>
            <a:ext cx="6820200" cy="333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vzhledem k provázanosti záložek, vyplňovat záložky v takovém 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d 1. 3. 2011 došlo ke změně zál.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Výběrová ř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etaily k VŘ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kument naleznete v Pokynech řídícího orgánu. Změna není popsána v D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68360" y="1015920"/>
            <a:ext cx="2124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Kopečná Janka, Ing. (MPSV)</cp:lastModifiedBy>
  <cp:lastPrinted>2008-07-08T14:49:10Z</cp:lastPrinted>
  <dcterms:modified xsi:type="dcterms:W3CDTF">2011-06-06T10:21:44Z</dcterms:modified>
  <cp:revision>714</cp:revision>
  <dc:subject/>
  <dc:title>Projektový manažer OP LZZ v M7+</dc:title>
</cp:coreProperties>
</file>